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E8E1-5BDA-4AE3-9822-F19BB1CC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521F-25BE-4D13-B2ED-2CDE933B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9B49-A235-41E8-8B5E-06A8B129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5F53-C577-4545-A00A-5367B5CD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4882-35E8-47CF-9FA5-03F87E48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8F8C-F979-4A87-A9B1-35143D1C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FE3C-9CC8-4436-AAD5-BA319D66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C973-D0AF-4DDC-A3E9-F5A4D193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81EA-F420-4DFF-B42A-B63FD54D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AA2F-CC8A-4820-A884-145F3774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D7F8-A8BF-48AD-9F36-45A3AEB3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BF73-157F-4097-B7D6-1BED074A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A264-8A3D-49AF-A6C2-76CA2B73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575B-CFE3-4FA6-A863-F55BD2BE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F85A-139F-4910-BA0E-2DACB46C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3367-5826-4BE7-A65E-CA08E12E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2AD1-BAB2-4AF4-A03D-5E908FC7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6F60-A7F2-490F-9843-4FC69501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189C-1DD0-4314-A067-5D5F23CA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3DE5-C75C-47C5-9696-08848C5E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5A20-FDED-4E24-92E7-E5002435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11C0-4D16-4B1F-BB93-03FF2CA4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8794-92D0-4301-9DDB-F7F9F8FE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A2BD-1EC6-4448-A84C-0D00358C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170F-8567-4B01-B3F5-F1757964ED50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CDE8-AFE6-4960-9878-8D8E0083F72A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tmelon.com/a12Poems.html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tmelon.com/a12Poems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d2204"/>
                </a:solidFill>
                <a:latin typeface="Arial"/>
              </a:rPr>
              <a:t>Get Going with Shortcuts and Hotkeys </a:t>
            </a:r>
            <a:endParaRPr b="1" lang="en-US" sz="40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Activity 3</a:t>
            </a:r>
            <a:br>
              <a:rPr sz="4000"/>
            </a:b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hoose another poem from the websit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Follow the steps listed below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pen a new document in Microsoft Word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Go to this website - http://www.wtmelon.com/a12Poems.htm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opy the text of the poem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Paste the text into Microsoft Word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Format the poem you choose as you lik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tudents will share the poem they chose and show the changes they made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tudents will explain which hotkeys they used to change the tex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tudents will say which hotkey they feel is the most useful and why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What are shortcuts or hotkeys?</a:t>
            </a:r>
            <a:br>
              <a:rPr sz="3200"/>
            </a:b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How do they help when using the computer?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Using the mouse is a powerful way to use the computer. Using hotkeys is as well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y use hotkeys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hey can help increase the speed with which you do ordinary tasks on the computer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does each one work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ich hotkeys are the most useful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ich hotkeys work with applications and the O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ich hotkeys work only with applications?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ich hotkeys work only with the O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e will review what each hotkey does using the following website.  Follow and repeat what I do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5421"/>
                </a:solidFill>
                <a:uFillTx/>
                <a:latin typeface="Arial"/>
                <a:hlinkClick r:id="rId1"/>
              </a:rPr>
              <a:t>http://www.wtmelon.com/a12Poems.htm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Activity 1</a:t>
            </a:r>
            <a:br>
              <a:rPr sz="4000"/>
            </a:b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Students will play the PowerPoint game without looking at their cheat sheets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Students will be given the opportunity to use the hotkeys in the game on their computers and practice using each of them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Activity 2</a:t>
            </a:r>
            <a:br>
              <a:rPr sz="4000"/>
            </a:b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Scavenger Hunt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Open a new document in Microsoft Word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Go to this website - </a:t>
            </a:r>
            <a:r>
              <a:rPr b="0" lang="en-US" sz="1400" spc="-1" strike="noStrike" u="sng">
                <a:solidFill>
                  <a:srgbClr val="995421"/>
                </a:solidFill>
                <a:uFillTx/>
                <a:latin typeface="Arial"/>
                <a:hlinkClick r:id="rId1"/>
              </a:rPr>
              <a:t>http://www.wtmelon.com/a12Poems.html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Copy the text of the poem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Paste the text into Microsoft Word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Save it your iSquad folder as Poem 1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Find and replace tape deck with iPod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Find an replace fax number with email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Find and replace pager with PSP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Bold the first word of every line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Underline every other word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Italicize the words between the underlined words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If you make a mistake, undo it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If you undo something by mistake, redo it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Save it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Select all the text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Copy all the text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Create a new Microsoft Word document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Paste the text into the new document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Save it to you iSquad folder as Poem 2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IT</cp:lastModifiedBy>
  <dcterms:modified xsi:type="dcterms:W3CDTF">2007-01-25T23:05:26Z</dcterms:modified>
  <cp:revision>4</cp:revision>
  <dc:subject/>
  <dc:title>Workshop Title</dc:title>
</cp:coreProperties>
</file>